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CCEC-0733-4C7E-AF21-C789AC9BD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01DC-9B0B-4AD7-A5ED-B9D6353D4C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E21F-7DE7-4C90-83EC-8430D6A08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43B8-BF14-4F14-A502-9D7AD1ECC8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59F2-C413-4CF5-8A65-3726CB3F1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4283-28E6-4C89-8742-DCA6EC877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EC5-2393-4C16-97DA-D31E98F11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B0D8-C412-4891-A745-24DE61673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13AE-EA0D-43F4-9C03-47670F580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230C-077B-48ED-A801-0DCDE88EB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626-BA78-4EEB-98A1-C3E3B418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E5B-CCFA-45FC-B711-57936BE6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492-7605-4CE6-8F6E-8D347FAB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ADC-8234-4BDD-B1A1-22AAC69C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7AC1-AE7D-43A9-9357-6FFFF69E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880A-D0BD-4C66-9AC9-98913082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86DB-2948-46A2-8107-5B523785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9EAD-D216-4108-9126-6FEF97CE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B3D8-9F75-4BAC-8D7C-6F1BCCB1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B02F-FC39-40BF-93C3-63D2B82B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5A9B-9736-4D51-BC09-3313550A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3FF-FBDE-45EF-AFA7-C19C8A19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FFCC-33B6-4CC1-A2F2-52EAC3F2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2D7B-6514-4527-A3F9-922A72DC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DF5C-F4F5-4E0C-B08A-F29728FC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8ECB-592A-4CC6-A3AE-94C3DFE0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B147-E9F4-4D88-A2D4-11280F41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BC748-3CC7-46C6-A49E-5E3B9DFE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D4DC-5D08-490F-BDBA-637618FA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FB4A-1431-4323-A1FD-7CA9CABB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B858-D76A-49DA-BD6B-88ED6F47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0BDAB-C5F0-42ED-BCD2-5C8A4F30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250-3497-477A-AC73-383CA5F8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039A-4BFC-4983-946E-3DB64057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5E58-D0F5-4057-A7CE-705CAE21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C017B-7CF9-4252-AC3B-C69C7669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7B968-AF1D-492E-96C5-AD30DFC1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A22F-97FF-4339-8354-8984D248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8832-76EE-4646-AE73-C15641DD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AF99-3571-425A-B96D-73577BB7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0F58-95E4-474A-A077-DE15B957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09342-4FFD-46F0-BAC6-0E7E1AD4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6454-55FA-4FAD-9256-061CB3A2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3B0-F351-4B14-9D65-E97EBF5A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D2371-DA68-4A1F-95C1-B19569C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B652-7ED0-4B39-8707-3F42FC7A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2F35-1573-42FB-95FE-1550EF48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8C27-ACD2-4D27-ABD9-2F60548D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B2AE-8126-4A45-A1EC-15C088F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2B08D-8649-47BA-816B-6C14661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01CC-0A66-475B-B875-D5E84E85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DA35-5070-4053-9149-C96C68DE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9526-719C-46EC-ABC1-A2BB57D2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71047-8ED1-4141-8A8B-E6218F4D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76A-F6C9-4585-9200-DF2025CB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104F-6CD3-494B-AC77-3F55A61A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157E4-3D77-496D-A2F5-950B094E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ED74-674F-4300-9DBF-FEB58DEE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B2B06-6E47-4F3D-AC71-472B1458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B7D21-4909-46A6-9598-224F8C74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4F84B-4C63-49BD-96E0-78A170CA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B13D6-0C86-42C9-A603-BC61A857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F6D9E-7FB4-4186-BA94-18B676EA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4E0A-1525-4F41-9A75-3AC7C286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47912-65ED-4438-B53A-F95AC869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2EB-893E-47B0-AC70-BB3C6F9E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DBF03-ABD7-41EF-A18F-D0DEBD14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0D7BC-8C13-431F-84B7-1F25B518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BA17B-64E1-4E75-ACF5-FE31412B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441EE-A7A3-476F-B1F7-988B5EFF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83A2F-F8DB-40D3-A223-6A5B6E16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8B585-BA04-4403-B630-DADBC206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BA506-DB7C-43DA-9E49-AC377CA8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E5F8C-E1E8-423A-9C13-A017848F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CC8F6-D73B-4F3F-9961-E4BB283D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34DFC-4474-40B8-B858-E75FD5C7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0B6-2A15-4F1B-BD40-DEF1CC2A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FBA27-DC38-4690-8298-34CED6E0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A5AFB-C188-4EA7-B0CA-ADF653DC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A14C8-B7C8-4BFB-A99F-BFACDC4D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2F2-0094-48BE-A1A6-D130E23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0E4-2A35-4FFF-9999-E0B011E8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FCE0-9F67-4562-B1A4-4FABD31E9EB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EFAD-A85B-429A-8629-113805F97BB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3466-936E-44BC-BA9E-9421011FC25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8D22-F91B-4002-AB7F-A7B53E2C1A8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F19B-2D33-43D0-AD46-4DAF9A0F8A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863F-4562-4EC9-9A65-B5EA427C246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Q&amp;As on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AIR technical template and reporting on results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6 December 2015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699F-6F67-442E-8496-DC18F466A33A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Reporting on results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 priority for all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ural development well prepared!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MES developed with MS/stakeholders over 4 yea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ed to demonstrate results at RDP and EU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and evaluation combine to show full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A6A6-A8E5-4D4F-A9A6-043952FCB4E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Simplification of result reporting for 2014-2020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umber of indicators reduce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ll target indicator values obtained from simple monitoring da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re complex result indicators addressed through e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"Standard" AIR based only on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 evaluation assessment in AIR 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65CD-F286-41ED-A183-E39645B641C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nnual result reporting (Standard AIR)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arget indicator values per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om monitoring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ws achievements/progress to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ly programmed operations (primary effec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dditional contributions to Focus Are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enditure on operations flagged as having a secondary con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ve: only an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ve: no new data or analysis, simple data ex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/propor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new requiremen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2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7F08-E83E-4F29-9273-7C8004C0561A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context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ed to show full extent of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 reality many operations contribute to more than one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Too complex to capture from simple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6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DCD9-2A9D-4D96-B752-F69DF067B0D4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solution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Multiple contributions to target indicators "built-in" for Priority 4 and parts of Priority 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aptured through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For other Focus Areas, operations are "flagged" when encoded in the Operations Databas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Allows evaluators to identify releva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Discussed in ExCo, Expert group mee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valuators will quantify secondary contributions, and complementary result indicators, for the enhanced AI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Task shifted from 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Not required every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0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1B3C-54D9-4688-9C4B-3B6B9EDA455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Flagging of secondary contributi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05" name="Picture 2" descr=""/>
          <p:cNvPicPr/>
          <p:nvPr/>
        </p:nvPicPr>
        <p:blipFill>
          <a:blip r:embed="rId1"/>
          <a:srcRect l="29791" t="7505" r="37096" b="79746"/>
          <a:stretch/>
        </p:blipFill>
        <p:spPr>
          <a:xfrm>
            <a:off x="66600" y="1484280"/>
            <a:ext cx="6677280" cy="14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rcRect l="30486" t="71123" r="37106" b="3433"/>
          <a:stretch/>
        </p:blipFill>
        <p:spPr>
          <a:xfrm>
            <a:off x="208080" y="2860560"/>
            <a:ext cx="6535800" cy="2800440"/>
          </a:xfrm>
          <a:prstGeom prst="rect">
            <a:avLst/>
          </a:prstGeom>
          <a:ln w="0">
            <a:noFill/>
          </a:ln>
        </p:spPr>
      </p:pic>
      <p:sp>
        <p:nvSpPr>
          <p:cNvPr id="307" name="Oval 1"/>
          <p:cNvSpPr/>
          <p:nvPr/>
        </p:nvSpPr>
        <p:spPr>
          <a:xfrm>
            <a:off x="4541760" y="4627440"/>
            <a:ext cx="1584360" cy="57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08" name="Straight Arrow Connector 3"/>
          <p:cNvCxnSpPr>
            <a:stCxn id="307" idx="7"/>
          </p:cNvCxnSpPr>
          <p:nvPr/>
        </p:nvCxnSpPr>
        <p:spPr>
          <a:xfrm flipV="1">
            <a:off x="5893920" y="4627080"/>
            <a:ext cx="11844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09" name="TextBox 6"/>
          <p:cNvSpPr/>
          <p:nvPr/>
        </p:nvSpPr>
        <p:spPr>
          <a:xfrm>
            <a:off x="6743880" y="1628640"/>
            <a:ext cx="24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f nature of operations is known, no need to go at application level, whole set of operations simil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0" name="Straight Arrow Connector 8"/>
          <p:cNvCxnSpPr>
            <a:stCxn id="307" idx="7"/>
            <a:endCxn id="309" idx="1"/>
          </p:cNvCxnSpPr>
          <p:nvPr/>
        </p:nvCxnSpPr>
        <p:spPr>
          <a:xfrm flipV="1">
            <a:off x="5894280" y="2320200"/>
            <a:ext cx="850320" cy="239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Oval 16"/>
          <p:cNvSpPr/>
          <p:nvPr/>
        </p:nvSpPr>
        <p:spPr>
          <a:xfrm>
            <a:off x="4419720" y="5153040"/>
            <a:ext cx="2350800" cy="72864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6831000" y="4627440"/>
            <a:ext cx="24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where nature is not known in advance, coded on processing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3" name="Straight Arrow Connector 11"/>
          <p:cNvCxnSpPr>
            <a:stCxn id="311" idx="7"/>
            <a:endCxn id="312" idx="1"/>
          </p:cNvCxnSpPr>
          <p:nvPr/>
        </p:nvCxnSpPr>
        <p:spPr>
          <a:xfrm flipV="1">
            <a:off x="6426360" y="4997160"/>
            <a:ext cx="405360" cy="262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sp>
        <p:nvSpPr>
          <p:cNvPr id="314" name="Rectangle 2"/>
          <p:cNvSpPr/>
          <p:nvPr/>
        </p:nvSpPr>
        <p:spPr>
          <a:xfrm>
            <a:off x="5334120" y="1484280"/>
            <a:ext cx="1685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393A-E88B-4CE0-9E3D-6FE3B26C953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Capturing secondary contribuit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376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gnoring secondary effects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leads to  underestimation of RDP achie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687240" y="3159000"/>
            <a:ext cx="7413840" cy="3380040"/>
          </a:xfrm>
          <a:prstGeom prst="rect">
            <a:avLst/>
          </a:prstGeom>
          <a:ln w="0">
            <a:noFill/>
          </a:ln>
        </p:spPr>
      </p:pic>
      <p:sp>
        <p:nvSpPr>
          <p:cNvPr id="320" name="Oval 1"/>
          <p:cNvSpPr/>
          <p:nvPr/>
        </p:nvSpPr>
        <p:spPr>
          <a:xfrm>
            <a:off x="1474920" y="5084640"/>
            <a:ext cx="1009440" cy="865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843280" y="3357720"/>
            <a:ext cx="2200320" cy="2158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6732720" y="5192640"/>
            <a:ext cx="100800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23" name="Straight Arrow Connector 3"/>
          <p:cNvCxnSpPr/>
          <p:nvPr/>
        </p:nvCxnSpPr>
        <p:spPr>
          <a:xfrm>
            <a:off x="5043600" y="4581000"/>
            <a:ext cx="969120" cy="147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15"/>
          <p:cNvCxnSpPr/>
          <p:nvPr/>
        </p:nvCxnSpPr>
        <p:spPr>
          <a:xfrm flipH="1">
            <a:off x="5218920" y="5568840"/>
            <a:ext cx="1513800" cy="488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Straight Arrow Connector 17"/>
          <p:cNvCxnSpPr>
            <a:stCxn id="320" idx="2"/>
          </p:cNvCxnSpPr>
          <p:nvPr/>
        </p:nvCxnSpPr>
        <p:spPr>
          <a:xfrm>
            <a:off x="1474560" y="5516640"/>
            <a:ext cx="1080" cy="434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Straight Arrow Connector 23"/>
          <p:cNvCxnSpPr/>
          <p:nvPr/>
        </p:nvCxnSpPr>
        <p:spPr>
          <a:xfrm>
            <a:off x="2406240" y="5392440"/>
            <a:ext cx="2431080" cy="840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5-11-17T11:17:17Z</cp:lastPrinted>
  <dcterms:modified xsi:type="dcterms:W3CDTF">2015-12-16T14:01:26Z</dcterms:modified>
  <cp:revision>477</cp:revision>
  <dc:subject/>
  <dc:title>Slide 1</dc:title>
</cp:coreProperties>
</file>